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A211-3A33-4FF0-8D7E-B8466B5F9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C92F-4B03-4B95-9F8F-DD4C229E5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EB39-7EA7-4E60-8159-D24059A7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5D16-B8E6-4A79-82A9-CBECA309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5C87-525B-4858-90BE-F8A30062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A5F3-5BC5-4533-8085-3CFA7FB9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F02E-E0C3-4FFD-992D-EBEA4FCB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9F95-B0DA-4A27-9A1E-123533BD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63CC-A41A-4484-9552-A60FE5A5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377E-5E61-4133-821C-C3908EBB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67D9-8097-4B35-94A0-F9FA1157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B0BD-2A9B-42EB-8C63-FB17A89B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2C83-A115-4640-86D7-6DEE851A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DECD-3131-4B6C-A393-760F2824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AA0A-54FC-4CB4-9753-774CEC54F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yat Hussei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yat Husseini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yat Hussein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yat Husseini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ola mi amigas! ¿Qué quieres? ¿De donde eres? Tengo k estudar, adios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5627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numbre es Ayat. Vivo en New York. Yo tengo catorce años. Tengo dos hermanos, una hermana y un hermano. Yo soy bonita. Estoy feliz y enerjica. Adios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212760" y="5029200"/>
            <a:ext cx="641160" cy="933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2193840" y="335268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334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2114640" y="6168960"/>
            <a:ext cx="54288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02280"/>
            <a:ext cx="439560" cy="63324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334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4572000"/>
            <a:ext cx="568080" cy="8222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3886200"/>
            <a:ext cx="38098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as tardes! Jajaja, todos tienemos catorce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3276720"/>
            <a:ext cx="380988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oy de donde Mexico. ¿Cuánto años tie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2514600"/>
            <a:ext cx="380988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os dias! Soy quiero dulces! Soy de donde Hol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rial"/>
              </a:rPr>
              <a:t>Buenas noches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743200" y="4572000"/>
            <a:ext cx="38098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ola! ¿Cómo eres Carmela? Te amo Rhahmina,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rmela. Hay gracios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9" descr="Photo on 2011-10-21 at 13.53 #2.jpg"/>
          <p:cNvPicPr/>
          <p:nvPr/>
        </p:nvPicPr>
        <p:blipFill>
          <a:blip r:embed="rId7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7"/>
          <p:cNvSpPr/>
          <p:nvPr/>
        </p:nvSpPr>
        <p:spPr>
          <a:xfrm>
            <a:off x="2743200" y="5334120"/>
            <a:ext cx="38098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rial"/>
              </a:rPr>
              <a:t>Ella esta bonita, y enerjica, y simpatic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2" descr="Photo on 2011-10-21 at 13.46.jpg"/>
          <p:cNvPicPr/>
          <p:nvPr/>
        </p:nvPicPr>
        <p:blipFill>
          <a:blip r:embed="rId8"/>
          <a:stretch/>
        </p:blipFill>
        <p:spPr>
          <a:xfrm>
            <a:off x="2114640" y="3882960"/>
            <a:ext cx="647640" cy="9381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743200" y="6019920"/>
            <a:ext cx="38098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J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3" descr="Photo on 2011-11-29 at 13.54.jpg"/>
          <p:cNvPicPr/>
          <p:nvPr/>
        </p:nvPicPr>
        <p:blipFill>
          <a:blip r:embed="rId9"/>
          <a:stretch/>
        </p:blipFill>
        <p:spPr>
          <a:xfrm>
            <a:off x="838080" y="57913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2"/>
          <p:cNvSpPr/>
          <p:nvPr/>
        </p:nvSpPr>
        <p:spPr>
          <a:xfrm>
            <a:off x="790560" y="632448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4:58:47Z</dcterms:modified>
  <cp:revision>109</cp:revision>
  <dc:subject/>
  <dc:title>Profile</dc:title>
</cp:coreProperties>
</file>